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943-89B5-4A38-91AE-3759CD08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905-6954-462F-A941-9E3BC6A0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D792-7079-4423-BE53-95E73ADA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F3F-6B82-4E9C-BBC0-CCCB0344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B74B-7FF9-4A6E-BCCC-F712B1DC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C25E-81F5-40B0-B4C9-B75C65BD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4ED-8026-4869-A005-3DD790BE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FC1-FA32-4316-BAEC-2393175F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A44-FB8E-4D6C-B124-9D3D8862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08F-9884-468D-BF1A-447E0F3F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FC8-8AD8-404E-ADD5-E665C447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2F9-EDB1-46B8-A322-47B371F3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AF2B-D3E4-434A-BC56-EFE66C4D87AE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A693-974A-4034-948D-25A54DE22876}" type="slidenum">
              <a:rPr b="0" lang="es-ES" sz="1200" spc="-1" strike="noStrike">
                <a:solidFill>
                  <a:srgbClr val="898c9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2" action="ppaction://hlinksldjump"/>
              </a:rPr>
              <a:t>Discapacidades intelectuale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3" action="ppaction://hlinksldjump"/>
              </a:rPr>
              <a:t>Trastornos de la comunicación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4" action="ppaction://hlinksldjump"/>
              </a:rPr>
              <a:t>Trastorno del espectro del autismo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5" action="ppaction://hlinksldjump"/>
              </a:rPr>
              <a:t>Trastorno por déficit de la atención e hiperactividad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6" action="ppaction://hlinksldjump"/>
              </a:rPr>
              <a:t>Trastorno específico del aprendizaje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7" action="ppaction://hlinksldjump"/>
              </a:rPr>
              <a:t>Trastornos motore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8" action="ppaction://hlinksldjump"/>
              </a:rPr>
              <a:t>Otros trastornos  del desarrollo neurológico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44" name="6 Grupo"/>
          <p:cNvGrpSpPr/>
          <p:nvPr/>
        </p:nvGrpSpPr>
        <p:grpSpPr>
          <a:xfrm>
            <a:off x="785880" y="571680"/>
            <a:ext cx="3643200" cy="1334160"/>
            <a:chOff x="785880" y="571680"/>
            <a:chExt cx="3643200" cy="1334160"/>
          </a:xfrm>
        </p:grpSpPr>
        <p:sp>
          <p:nvSpPr>
            <p:cNvPr id="45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46" name="5 CuadroTexto"/>
            <p:cNvSpPr/>
            <p:nvPr/>
          </p:nvSpPr>
          <p:spPr>
            <a:xfrm>
              <a:off x="1000080" y="714600"/>
              <a:ext cx="22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neurodesarroll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4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1634-5911-4ED5-816A-B5A24F258DE6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íntomas de inatención (6/9) e hiperactividad/impulsividad (6/9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Antes de los 12 años, en dos o más contextos y con interferencia funcional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presentación: combinada o predominante falta de atención o hiperactividad / impulsividad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en remisión parcial y gravedad actual (3 nivele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Otro trastorno por déficit de atención con hiperactividad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redominio de síntomas pero no cumple criterios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ción de motivos (síntoma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 no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se especifican los motivos y la información es insuficient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40" name="6 Grupo"/>
          <p:cNvGrpSpPr/>
          <p:nvPr/>
        </p:nvGrpSpPr>
        <p:grpSpPr>
          <a:xfrm>
            <a:off x="785880" y="428760"/>
            <a:ext cx="4214880" cy="1263600"/>
            <a:chOff x="785880" y="428760"/>
            <a:chExt cx="4214880" cy="1263600"/>
          </a:xfrm>
        </p:grpSpPr>
        <p:sp>
          <p:nvSpPr>
            <p:cNvPr id="141" name="3 Rectángulo redondeado"/>
            <p:cNvSpPr/>
            <p:nvPr/>
          </p:nvSpPr>
          <p:spPr>
            <a:xfrm>
              <a:off x="785880" y="428760"/>
              <a:ext cx="4214880" cy="1263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42" name="5 CuadroTexto"/>
            <p:cNvSpPr/>
            <p:nvPr/>
          </p:nvSpPr>
          <p:spPr>
            <a:xfrm>
              <a:off x="1033560" y="586800"/>
              <a:ext cx="380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por déficit de atención e hiperactivi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4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24B6-3C67-4AEB-A7BA-F3AA77245D2E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45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46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ificultades de aprendizaje en (especificar si) :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en la lectura: precisión en la lectura de palabras, velocidad o fluidez  de la lectura, comprensión de la lectura. Dislex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es en la expresión escrita: corrección ortográfica,  gramatical y de la puntuación, claridad u organización de la expresión escrit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matemática: sentido de los números, memorización de operaciones, cálculo correcto o fluido, razonamiento matemático. Discalcul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3 niveles de gravedad: leve, moderado, grav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Registrar cada una de las áreas y subaptitude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e deben cumplir los cuatro criterios diagnósticos: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51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52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53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 específico del aprendizaje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5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D010-74A7-4998-8716-76CE74436A64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56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57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l desarrollo de la coordinación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movimientos estereotipados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tics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la Tourette;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tics motores o vocales persistentes (solo motores o vocales);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tics transitorio,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otro trastorno especificado de tics,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tics no especificad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6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6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4" name="5 CuadroTexto"/>
            <p:cNvSpPr/>
            <p:nvPr/>
          </p:nvSpPr>
          <p:spPr>
            <a:xfrm>
              <a:off x="1000080" y="714600"/>
              <a:ext cx="32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motor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6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0D7F-2E3B-4A4C-8B09-6B27902003C8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6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68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Problemas de relación: 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problemas relacionados con la educación familiar; problemas de relación con los hermanos; educación lejos de los padres; niño afectado por una relación parental conflictiva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Maltrato infantil y negligencia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: maltrato físico infantil, abuso sexual infantil, maltrato psicológico infantil  y negligencia infantil. En todos ellos puede ser confirmado o sospechado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Funcionamiento intelectual límite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73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sp>
          <p:nvSpPr>
            <p:cNvPr id="174" name="3 Rectángulo redondeado"/>
            <p:cNvSpPr/>
            <p:nvPr/>
          </p:nvSpPr>
          <p:spPr>
            <a:xfrm>
              <a:off x="785880" y="571680"/>
              <a:ext cx="4572000" cy="1428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75" name="5 CuadroTexto"/>
            <p:cNvSpPr/>
            <p:nvPr/>
          </p:nvSpPr>
          <p:spPr>
            <a:xfrm>
              <a:off x="1054800" y="714240"/>
              <a:ext cx="412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Otros problemas que pueden ser objeto de atención clínic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7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D046-C037-4F62-9F4C-21BEBE4620DD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7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79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1" action="ppaction://hlinksldjump"/>
              </a:rPr>
              <a:t>Trastorno del desarrollo intelectual o discapacidad intelectual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global del desarrollo (men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No es posible valoración sistemática y no cumple los hitos de funcionamiento intelectual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intelectual no especificado (may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Cuando la valoración es difícil por procedimientos locales o deterioros sensoriales o físicos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5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5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54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Discapacidades intelectual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C3D3-EF1D-4997-A170-90009DEB661E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5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58" name="10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del desarrollo intelectual / discapacidad intelectual vs retraso mental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riterios: IQ + función adaptativa+ inicio en etapa de desarroll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Áreas de evaluación: razonamiento, resolución de problemas, pensamiento abstracto, juicio, aprendizaje académ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Instrumentos IQ y adaptación : estandarizados y validados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Gravedad actual: leve, moderado, grave, profun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ominios a valorar:  conceptual, social y práct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63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64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65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desarrollo intelectual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3C47-BA54-4BEA-A7DF-48ADA6176418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6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9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1" action="ppaction://hlinksldjump"/>
              </a:rPr>
              <a:t>Trastorno  del lenguaj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2" action="ppaction://hlinksldjump"/>
              </a:rPr>
              <a:t>Trastorno fonológic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3" action="ppaction://hlinksldjump"/>
              </a:rPr>
              <a:t>Trastorno de la fluencia de inicio en la infancia (tartamude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4" action="ppaction://hlinksldjump"/>
              </a:rPr>
              <a:t>Trastorno de la comunicación social (pragmátic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no especifica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74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75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76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D762-44B8-4C5B-B1B7-FC5E0089A647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7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0" name="10 Flecha izquierda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 del lenguaj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Unificación del trastorno mixto receptivo-expresivo y trastorno expresivo (DSM-IV-TR)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Inicio temprano (en torno a los 4 año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 a condiciones médicas ni neurológica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riterio A: dificultades persistentes en adquisición y uso del lenguaje: vocabulario, estructura de frases limitada, errores en el discurs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riterio B: por debajo de lo esperado a su edad, con limitaciones funcionales.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85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86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87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9F57-E819-4564-B4C4-BBD77E87E6EA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90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1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fonológic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imilar al trastorno fonológico (DSM-IV-TR)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riterio A: dificultades persistentes en producción de sonidos del habl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or debajo de lo esperado a su edad (inicio temprano, en torno a los 4 años),  on limitaciones funcionales.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 a condiciones congénitas o adquiridas (parálisis cerebral,…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96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97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98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998F-76AE-4C81-8A9D-D97FF73A8AB5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01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2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fluencia de inicio en la infancia (tartamude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in cambios significativos respecto a DSM-IV-TR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Alteraciones de la fluidez y en el patrón de habla en 1 o más síntomas (7 en total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ausan ansiedad al hablar o limitaciones en la comunicación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Inicio temprano del desarrollo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s a déficits sensoriales o motores del habla, ni lesión neurológica u condición médic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07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08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09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0B9E-CE30-454E-9A04-23D26A854307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12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3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social (pragmátic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uevo diagnóstico (componente pragmático del lenguaje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Dificultades en la comunicación verbal y no verbal (uso de la comunicación con objetos sociales, ajustar la comunicación al contexto, seguir reglas de conversación y narración, compresión de lo no-explícito y significados no literale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roduce limitaciones funcionales en uno o más dominio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n un momento temprano del desarroll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 a otra condición médica, neurológica o bajas aptitudes gramaticales, y no se explica mejor por TEA, DI, retraso global u otro trastorno mental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18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19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20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F403-C173-4FA2-B2D9-C857BB3BE7AB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23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4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generalizados del desarrollo vs trastornos del espectro autist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saparecen las categorías diagnósticas independientes: Rett, Asperger.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Baremo de severidad de los síntomas o gravedad: 3 niveles de ayud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ficiencias persistentes en comunicación social (A) y patrones restrictivos y repetitivos (B)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Especificaciones: déficit intelectual, deterioro del lenguaje, asociado a afectación médica-genética-ambiental, asociado a trastorno del desarrollo neurológico, mental o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29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30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31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espectro autist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32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2CB6-4D58-4D71-848E-1A0C80EF0987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3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34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35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21:31:00Z</dcterms:created>
  <dc:creator>USUARIO</dc:creator>
  <dc:description/>
  <dc:language>en-US</dc:language>
  <cp:lastModifiedBy>USUARIO</cp:lastModifiedBy>
  <dcterms:modified xsi:type="dcterms:W3CDTF">2014-06-01T22:38:58Z</dcterms:modified>
  <cp:revision>55</cp:revision>
  <dc:subject/>
  <dc:title>DSM-V</dc:title>
</cp:coreProperties>
</file>