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37C-08B4-4A15-AFD2-5590AA91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AEB-16A5-4C80-8650-5212AB97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1F6-5BA6-4EEB-AC9A-294AAB0D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B3D-C56E-4F6F-B2E1-2FCA89C3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CC8-EBEC-4D1D-A4E8-D0230057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6B0-852C-4809-A84D-963FB0BA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86D6-3EA2-4736-BF26-60B4A970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06C-436B-4CF3-B53F-430D9D32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37D-5969-487A-A219-75EA0B7F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6F9-A70A-4D7F-88D4-ADE66013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FE0-4553-4ADD-9328-9043A139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8F1-9727-49AB-A641-97720E24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2756-5F30-4643-966F-906AFBA2743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image" Target="../media/image1.png"/><Relationship Id="rId14" Type="http://schemas.openxmlformats.org/officeDocument/2006/relationships/slide" Target="slide2.xml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357280"/>
            <a:ext cx="7858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de ansiedad por separ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Mutismo selec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Fobia específ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de ansiedad social (fobia so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 de pán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Agorafob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Trastorno de ansiedad generaliz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de ansiedad inducido por sustancias/medicamen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Trastorno de ansiedad debido a otra afección méd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Otro trastorno de ansiedad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Trastorno de ansiedad no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0F12-B7A6-475E-A585-6C10BE2F2DA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13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725400" y="1322280"/>
            <a:ext cx="5327640" cy="750960"/>
            <a:chOff x="725400" y="1322280"/>
            <a:chExt cx="5327640" cy="750960"/>
          </a:xfrm>
        </p:grpSpPr>
        <p:pic>
          <p:nvPicPr>
            <p:cNvPr id="50" name="11 Rectángulo redondeado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25400" y="1322280"/>
              <a:ext cx="53276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17560" y="1389240"/>
              <a:ext cx="5151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 DE ANSIEDAD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limitados, no ansiedad generalizada que ocurre menos días, ataques de viento, ataque de nerv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SÍNTOMAS SOMÁTICOS Y RELACIONAD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A14C-9D66-414C-B0F8-CB31561DBB2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4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52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elimina el trastorno TOC (nuevo capítulo), de estrés postraumático y trastorno de estrés y se mueven a otros capítulos específ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s en criterios para fobia específica  (duración 6 meses, reconocer que la ansiedad es excesiva para mayores de 18 años) y trastorno de ansiedad 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son un especificad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de pánico y agorafobia se diagnostíian por separ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incluyen el mutismo selectivo y el trastorno de ansiedad por separ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7B16-ED3F-4C6B-86AC-332D03B264F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ANSIEDAD POR SEPAR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UBICACIÓN, antes en trastorno de la infancia y adolesc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dicadores estab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imina criterio de inicio antes de los 18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nsiedad excesiva por separación del hogar o de las personas vinculadas: malestar, preocupación excesiva, negativa a salir, miedo a estar solo, pesadillas, quejas de síntomas fís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 menos 4 semanas en niños y 6 o más en adul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992B-6DE0-4B91-B411-E93C644FB63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2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2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2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MUTISMO SELE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UBICACIÓN, antes en trastorno de la infancia y adolesc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dicadores estables respecto a DSM-IV-TR (5 criterios) referidos al fracaso a hablar en situaciones sociales, interfiere en el rendimiento social, al menos 1 mes, no debido a falta de lenguaje y otro trastorno de la comun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7AAC-2211-4A7A-98C5-8BE8729BD96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FOBIA ESPECÍF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y cambios sustanciales, pero desaparece la irracionalidad del miedo (no debe reconocers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 temporal para todas las edades: 6 me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 Temor acusado o ansiedad hacia objeto o situación que provoca miedo inmediato o ansiedad, desproporcionado al pelig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animal, ambiental, sangre-inyecciones, situacional u otros tip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A68F-289F-4671-A8E9-5EDC52E050A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ANSIEDAD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ismo contenido que en DSM-IV-TR, con criterios un poco más extens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s iguales a los de fobia específica: Criterio temporal para todas las edades: 6 meses; y criterios:  Temor acusado o ansiedad hacia situación social , con miedo a ser evaluados negativamente, y que provoca miedo inmediato o ansiedad, desproporcionado al pelig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39CE-AF58-4D09-BC9A-4EEDDB97039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02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5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PÁN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inesperados y recidivantes / recurrentes. Aparición súbita de miedo o malestar intenso, con al menos cuatro de los trece síntomas (palpitaciones, sudoración…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Las crisis han durado al menos una vez un mes, con 1 síntoma de inquietud persistente o cambio significativo de comportamien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debido a sustancias o enfermedad médica u otro trastorno men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ener en cuenta síntomas específicos cultur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dor de ataque de angustia (no es un trastorno mental), y puede aparecer durante el transcurso de otros trastorno mentales. Trece criter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0F22-6B2C-4A2F-A74C-123B306F29B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14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7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GORAFO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Las situaciones agorafóbicas deben ser dos ( 5 posibles), independiente del trastorno de pánico, pudiendo codificar ambos al mismo tiemp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ductas de evitación o temor a las situaciones, creencia de dificultad para escapar de el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ANSIEDAD GENE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mantienen los criterios, solo cambia criterio de duración: 6 meses, en los que ocurre más días que no los criterios (3 o más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BB5D-4432-471A-91A0-34C5DF97729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26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9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ANSIEDAD INDUCIDO POR MEDICACIÓN/SUSTANC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o ansiedad predomin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intoxicación por sustancias, abstinencia o 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o ansiedad predomin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una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868E-70D5-4884-9ADA-BE33CFBCB8F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3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41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1:53:55Z</dcterms:created>
  <dc:creator>USUARIO</dc:creator>
  <dc:description/>
  <dc:language>en-US</dc:language>
  <cp:lastModifiedBy>USUARIO</cp:lastModifiedBy>
  <dcterms:modified xsi:type="dcterms:W3CDTF">2014-06-01T23:19:51Z</dcterms:modified>
  <cp:revision>35</cp:revision>
  <dc:subject/>
  <dc:title>Diapositiva 1</dc:title>
</cp:coreProperties>
</file>