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2A6-5447-40C7-AEEF-AA383D3D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9B5-1A7A-4DE4-BE1E-A5C8FDC8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0D7-1C81-4C86-83B2-A906D7B3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5A5-29F6-443D-AA23-2E30CF56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713-3DD5-4149-AE23-B210F730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47A-5E22-4494-AFED-646D8DCF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C71-2698-473A-ACC5-E4E33546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987-83D0-45E6-A0C4-0F25E1A1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89F-BAF1-4CE8-93C2-D82C437F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EEF-4E7F-454D-8AB4-121B5C2A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21C-F178-48FE-8F58-45863038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6BC-3811-4102-B958-8B0DCF5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6B2A-2512-439A-A502-A78D3CC9F16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rum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vitación /restricción de la ingest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 trastorno alimentario o de la ingestión de alimento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alimentario o de la ingestión de aliment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0135-43A5-4A3A-AD2B-85975D627AC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corporación de trastornos de la infancia, niñez y adolescencia: Pica, rumiación; más el cambio de trastorno de la ingestión alimentaria en la infancia o de la niñez por  trastorno evitativo/restrictivo de la ingesta de comida (falta de interés por la comida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evitativo/restrictivo de la ingesta de comida aumenta de número d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ción de criterio de amenorrea de la anorexia y criterio temporal de la bulim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: trastorno por atracón. Cambio de criterio temporal: 1 por semana, durante 3 meses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71FD-640C-42B5-9B6F-511B402B176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ingestión de sustancias no nutritivas, inadecuadas al nivel de desarrollo y no forma parte de practicas sociales o culturales. Período al meno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a ingesta aparece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917-7B7F-46F7-82D6-1C3497D8601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RUMI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regurgitaciones repetidas de alimento. NO atribuible a alteración gastrointestinal u otra enfermedad médica. No ocurre en transcurso de anorexia, bulimia, atracón o trastorno de evitación/restricción de ingesta de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os síntomas aparecen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4174-A030-4DFB-8A5D-092D0E1B1D6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VITACIÓN/RESTRICCIÓN DE LA INGESTA DE COM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Cambio de nombre y de grupo (antes en trastorno de la infancia o de la niñez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cento en la aversión a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comida o alimentación, con manifestación en pérdida de peso significativa, deficiencia nutricional significativa, depende de nutrición oral, interferencia en el funcionamiento psico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por falta de disponibilidad de comida o práctica cultu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 durante anorexia o bulimia nerviosa ( no hay alteración de la imagen corporal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74D9-678D-4CE0-8B76-35289FFA6B1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n el criterio A, el peso inferior al 85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tricción de ingesta, lleva peso significativamente bajo respecto a lo esperado por edad, sexo, salud, trayecto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nso miedo a ganar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percepción del propio peso, exageración de la influencia del peso o form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btipos: restrictivo (dieta, ayuno o ejercicio intenso), compulsivo/purgativo(atracón o comportamiento purgativ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gravedad: IMC. Curso (remisión parcial o total). Gravedad: 4 niveles (leve ≥17 a extremo 1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CFC8-61ED-483A-B159-666E490F6D7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compensatorias para prevenir ganancia de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utoevaluación influida por el peso y la siluet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curso (remisión parcial o total) y gravedad: 4 niveles (leve 1-3 episodios/semana a extremo 14 o má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1D4-354F-4364-976A-F96CC8BD547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( no es una afección en estudio como en DSM-IV-T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s a: comer más rápido, sentirse desagradablemente lleno, comer gran cantidad de comida aunque no sienta hambre, comer a solas por sentimiento de vergüenza, sentirse a disgusto con uno mismo, depresión o culp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al recordar los atrac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asocia a estrategias compensatorias ( no aparece en curso de anorexia o bul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715B-327D-401A-87B9-2971D37ECB4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ALI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alimentación” más la razón especifica: anorexia nerviosa atípica, bulimia nerviosa de baja frecuencia y/o de limitada duración, trastorno por atracón de baja frecuencia y/o de limitada duración, trastorno por purg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LIMENTA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8A8B-7B8A-4E05-B81A-8B246FA4A11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38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2:38Z</dcterms:modified>
  <cp:revision>14</cp:revision>
  <dc:subject/>
  <dc:title>DSM-V</dc:title>
</cp:coreProperties>
</file>