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43B-37D2-4439-AB37-B9028235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BA9-D36B-4414-A399-4D4F9FA3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6CF-BFA7-480D-A70C-B00CF9B7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865-279F-49E8-9547-F19270A5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34A-2B74-474A-BCD9-A8C31562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AB9-4659-4CDD-99E4-489061AE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8BF-C659-4FB5-948E-987B713C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998-E500-4E79-9E0F-7017BC44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6BB-86A1-4D5E-AE0E-D4983B45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718-7B44-42B4-B367-D3B0B119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D52-94F0-4D6D-BCE9-D45EE2F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072-DD12-4070-9E07-E809880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9059-D94C-4E4B-A051-499D09D5D1F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:/Users/USUARIO/Desktop/CURSO1314/EOEP-SEDE/FORMACI&#211;N_DSMV/DSM-V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" Target="slide4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" Target="slide2.xml"/><Relationship Id="rId10" Type="http://schemas.openxmlformats.org/officeDocument/2006/relationships/image" Target="../media/image5.png"/><Relationship Id="rId11" Type="http://schemas.openxmlformats.org/officeDocument/2006/relationships/slide" Target="slide6.xm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AE36-10F9-4954-8E42-84E0CAA987E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15 Rectángulo redondeado"/>
          <p:cNvGrpSpPr/>
          <p:nvPr/>
        </p:nvGrpSpPr>
        <p:grpSpPr>
          <a:xfrm>
            <a:off x="2011320" y="2676600"/>
            <a:ext cx="4541760" cy="682560"/>
            <a:chOff x="2011320" y="2676600"/>
            <a:chExt cx="4541760" cy="682560"/>
          </a:xfrm>
        </p:grpSpPr>
        <p:pic>
          <p:nvPicPr>
            <p:cNvPr id="45" name="15 Rectángulo redondeado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011320" y="2676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100240" y="27432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Modelo alternativo del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17 Rectángulo redondeado"/>
          <p:cNvGrpSpPr/>
          <p:nvPr/>
        </p:nvGrpSpPr>
        <p:grpSpPr>
          <a:xfrm>
            <a:off x="79200" y="4248000"/>
            <a:ext cx="4548240" cy="684360"/>
            <a:chOff x="79200" y="4248000"/>
            <a:chExt cx="4548240" cy="684360"/>
          </a:xfrm>
        </p:grpSpPr>
        <p:pic>
          <p:nvPicPr>
            <p:cNvPr id="48" name="17 Rectángulo redondeado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9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71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19 Rectángulo redondeado"/>
          <p:cNvGrpSpPr/>
          <p:nvPr/>
        </p:nvGrpSpPr>
        <p:grpSpPr>
          <a:xfrm>
            <a:off x="1865160" y="4962600"/>
            <a:ext cx="4548240" cy="682560"/>
            <a:chOff x="1865160" y="4962600"/>
            <a:chExt cx="4548240" cy="682560"/>
          </a:xfrm>
        </p:grpSpPr>
        <p:pic>
          <p:nvPicPr>
            <p:cNvPr id="51" name="19 Rectángulo redondeado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86516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95732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GRUPO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54" name="22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24 Rectángulo redondeado"/>
          <p:cNvGrpSpPr/>
          <p:nvPr/>
        </p:nvGrpSpPr>
        <p:grpSpPr>
          <a:xfrm>
            <a:off x="2011320" y="1889280"/>
            <a:ext cx="4541760" cy="682560"/>
            <a:chOff x="2011320" y="1889280"/>
            <a:chExt cx="4541760" cy="682560"/>
          </a:xfrm>
        </p:grpSpPr>
        <p:pic>
          <p:nvPicPr>
            <p:cNvPr id="57" name="24 Rectángulo redondeado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011320" y="188928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100240" y="19573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Principales cambios en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14 Rectángulo redondeado"/>
          <p:cNvGrpSpPr/>
          <p:nvPr/>
        </p:nvGrpSpPr>
        <p:grpSpPr>
          <a:xfrm>
            <a:off x="4084560" y="5608800"/>
            <a:ext cx="4541760" cy="682560"/>
            <a:chOff x="4084560" y="5608800"/>
            <a:chExt cx="4541760" cy="682560"/>
          </a:xfrm>
        </p:grpSpPr>
        <p:pic>
          <p:nvPicPr>
            <p:cNvPr id="60" name="14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084560" y="56088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172040" y="567216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GRUPO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2A98-51A8-42FC-A781-57CBB641B6D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15 Rectángulo redondeado"/>
          <p:cNvGrpSpPr/>
          <p:nvPr/>
        </p:nvGrpSpPr>
        <p:grpSpPr>
          <a:xfrm>
            <a:off x="725400" y="2322360"/>
            <a:ext cx="8047080" cy="4035600"/>
            <a:chOff x="725400" y="2322360"/>
            <a:chExt cx="8047080" cy="4035600"/>
          </a:xfrm>
        </p:grpSpPr>
        <p:pic>
          <p:nvPicPr>
            <p:cNvPr id="66" name="1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2322360"/>
              <a:ext cx="804708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977760" y="2549520"/>
              <a:ext cx="7545600" cy="35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Aproximación alternativa al diagnóstic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riterios generales para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lementos del funcionamiento de la personalidad como un continuo. Nivel de desajuste global actu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- con rasgo específico (desajuste moderado de la personalidad y presencia de rasgos patológico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69" name="2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24 Rectángulo redondeado"/>
          <p:cNvGrpSpPr/>
          <p:nvPr/>
        </p:nvGrpSpPr>
        <p:grpSpPr>
          <a:xfrm>
            <a:off x="225360" y="1536840"/>
            <a:ext cx="4541760" cy="682560"/>
            <a:chOff x="225360" y="1536840"/>
            <a:chExt cx="4541760" cy="682560"/>
          </a:xfrm>
        </p:grpSpPr>
        <p:pic>
          <p:nvPicPr>
            <p:cNvPr id="72" name="24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153684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14280" y="1600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Principales cambios en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5" name="10 Flecha izquierda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23B2-21D0-48C8-BA26-230094FC741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15 Rectángulo redondeado"/>
          <p:cNvGrpSpPr/>
          <p:nvPr/>
        </p:nvGrpSpPr>
        <p:grpSpPr>
          <a:xfrm>
            <a:off x="512640" y="1676520"/>
            <a:ext cx="4540320" cy="682560"/>
            <a:chOff x="512640" y="1676520"/>
            <a:chExt cx="4540320" cy="682560"/>
          </a:xfrm>
        </p:grpSpPr>
        <p:pic>
          <p:nvPicPr>
            <p:cNvPr id="81" name="1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512640" y="1676520"/>
              <a:ext cx="4540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00120" y="17431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Modelo alternativo del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84" name="2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14 Rectángulo redondeado"/>
          <p:cNvGrpSpPr/>
          <p:nvPr/>
        </p:nvGrpSpPr>
        <p:grpSpPr>
          <a:xfrm>
            <a:off x="512640" y="2535120"/>
            <a:ext cx="8113680" cy="3756240"/>
            <a:chOff x="512640" y="2535120"/>
            <a:chExt cx="8113680" cy="3756240"/>
          </a:xfrm>
        </p:grpSpPr>
        <p:pic>
          <p:nvPicPr>
            <p:cNvPr id="87" name="14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2535120"/>
              <a:ext cx="8113680" cy="37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49160" y="2749680"/>
              <a:ext cx="7645680" cy="32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riterios generales TP (7 criterios de desajust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lementos del funcionamiento de la personal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Del yo: identidad y auto-dire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Interpersonal: empatía e intim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valuación de los rasgos patológicos: afectividad negativa, distanciamiento, antagonismo, desinhibición, psicoticismo. Otros 25 específico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0" name="10 Flecha izquierda" descr=""/>
            <p:cNvPicPr/>
            <p:nvPr/>
          </p:nvPicPr>
          <p:blipFill>
            <a:blip r:embed="rId4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4629-3C6B-49EE-996E-7A8BA2491D8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96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99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Paranoi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02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05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squizoi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08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squizotípic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1" name="11 Flecha izquierda" descr=""/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4812-A48F-42A4-88C0-2C1DA924173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117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120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ANTISO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23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26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29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HISTRION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9 Rectángulo redondeado"/>
          <p:cNvGrpSpPr/>
          <p:nvPr/>
        </p:nvGrpSpPr>
        <p:grpSpPr>
          <a:xfrm>
            <a:off x="798480" y="4748040"/>
            <a:ext cx="4541760" cy="682920"/>
            <a:chOff x="798480" y="4748040"/>
            <a:chExt cx="4541760" cy="682920"/>
          </a:xfrm>
        </p:grpSpPr>
        <p:pic>
          <p:nvPicPr>
            <p:cNvPr id="132" name="9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798480" y="4748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85960" y="4815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NARCISI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1 Flecha izquierda" descr=""/>
            <p:cNvPicPr/>
            <p:nvPr/>
          </p:nvPicPr>
          <p:blipFill>
            <a:blip r:embed="rId7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0428-B114-4C5E-A600-AAB260B7A5D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141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144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VAS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47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50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DEPENDIEN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53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OBSESIVO-COMPULS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6" name="11 Flecha izquierda" descr=""/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23:42:51Z</dcterms:created>
  <dc:creator>USUARIO</dc:creator>
  <dc:description/>
  <dc:language>en-US</dc:language>
  <cp:lastModifiedBy>USUARIO</cp:lastModifiedBy>
  <dcterms:modified xsi:type="dcterms:W3CDTF">2014-06-02T00:00:41Z</dcterms:modified>
  <cp:revision>6</cp:revision>
  <dc:subject/>
  <dc:title>DSM-V</dc:title>
</cp:coreProperties>
</file>