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B541-F27B-45EE-9570-845A9F463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0565-FF1A-4853-849C-34F13D98C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6DB9-D8C4-46CC-B677-98DF728B5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F8AD-FC43-4A2F-88B2-7909AF969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3967-761A-4D86-BADC-E51AEE445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A974-7F07-4C24-998B-1452AC463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0CDB-4076-420E-98A3-DA0292D76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FC37-8068-4076-9F27-B9069A857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D78D-0650-4A84-B06B-6C8F5DEE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49B0-E9BB-43BD-9F8A-D7A2C7DB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F0D5-2130-4B2B-9A56-2A75DE44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98D2-038E-4EC8-BF9E-98208582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A5DD2-B00F-4039-B927-B7D72C327D55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DSM-V.ppt" TargetMode="Externa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8.xml"/><Relationship Id="rId11" Type="http://schemas.openxmlformats.org/officeDocument/2006/relationships/image" Target="../media/image1.png"/><Relationship Id="rId12" Type="http://schemas.openxmlformats.org/officeDocument/2006/relationships/slide" Target="slide2.xml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rastorno obsesivo-compulsivo (TO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rastorno dismórfico corpo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rastorno por acumul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ricotilomaní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6" action="ppaction://hlinksldjump"/>
              </a:rPr>
              <a:t>Trastorno por excori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7" action="ppaction://hlinksldjump"/>
              </a:rPr>
              <a:t>TOC inducido por sustancias/medicació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8" action="ppaction://hlinksldjump"/>
              </a:rPr>
              <a:t>TOC debido a otra condición méd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9" action="ppaction://hlinksldjump"/>
              </a:rPr>
              <a:t>Otro TOC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10" action="ppaction://hlinksldjump"/>
              </a:rPr>
              <a:t>TOC no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C1386-EEDA-4678-B22B-917BE369DCAD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11 Rectángulo redondeado"/>
          <p:cNvGrpSpPr/>
          <p:nvPr/>
        </p:nvGrpSpPr>
        <p:grpSpPr>
          <a:xfrm>
            <a:off x="1054080" y="676440"/>
            <a:ext cx="4718160" cy="1396800"/>
            <a:chOff x="1054080" y="676440"/>
            <a:chExt cx="4718160" cy="1396800"/>
          </a:xfrm>
        </p:grpSpPr>
        <p:pic>
          <p:nvPicPr>
            <p:cNvPr id="47" name="11 Rectángulo redondeado" descr=""/>
            <p:cNvPicPr/>
            <p:nvPr/>
          </p:nvPicPr>
          <p:blipFill>
            <a:blip r:embed="rId11"/>
            <a:stretch/>
          </p:blipFill>
          <p:spPr>
            <a:xfrm>
              <a:off x="1054080" y="676440"/>
              <a:ext cx="471816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1206360" y="777960"/>
              <a:ext cx="4445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 obsesivo compulsiv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12 Rectángulo redondeado"/>
          <p:cNvGrpSpPr/>
          <p:nvPr/>
        </p:nvGrpSpPr>
        <p:grpSpPr>
          <a:xfrm>
            <a:off x="5797440" y="1463760"/>
            <a:ext cx="3260880" cy="755640"/>
            <a:chOff x="5797440" y="1463760"/>
            <a:chExt cx="3260880" cy="755640"/>
          </a:xfrm>
        </p:grpSpPr>
        <p:pic>
          <p:nvPicPr>
            <p:cNvPr id="50" name="12 Rectángulo redondeado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5797440" y="1463760"/>
              <a:ext cx="32608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5889600" y="1531800"/>
              <a:ext cx="3079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Cambios en DSM-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ASPECTOS DESTACADO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Deja de considerarse trastorno de ansiedad y tiene entidad propi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grupa otros trastornos como dismórfico corporal o tricotilomanía (antes control de impulso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uevos: trastornos por acumulación y trastorno por excoriació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dores: “con pobre insight” o introspección,  “relacionado con tics”, “dismorfia muscular”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36729-7F41-4271-BBBC-B3B63C4E1FFA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58" name="10 Flecha izquierda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11 Rectángulo redondeado"/>
          <p:cNvGrpSpPr/>
          <p:nvPr/>
        </p:nvGrpSpPr>
        <p:grpSpPr>
          <a:xfrm>
            <a:off x="1054080" y="676440"/>
            <a:ext cx="4737240" cy="1396800"/>
            <a:chOff x="1054080" y="676440"/>
            <a:chExt cx="4737240" cy="1396800"/>
          </a:xfrm>
        </p:grpSpPr>
        <p:pic>
          <p:nvPicPr>
            <p:cNvPr id="61" name="11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1054080" y="676440"/>
              <a:ext cx="473724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1206360" y="777960"/>
              <a:ext cx="4445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obsesivos compuls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OBSESIVO COMPULSI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Menos criterios para las obsesiones, elimina obligación que sean producto de su pensamiento. Elimina criterio B (irracionalidad de los síntoma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presencia de obsesiones o compulsiones (2 criterios): pensamiento o impulsos recurrentes que causan ansiedad; intenta ignorar o suprimir los pensamientos; o comportamientos de carácter repetitivo en respuesta a una obsesió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uponen pérdida de tiempo, más de 1 hora la día o interfieren en la rutina diari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se explica mejor por los síntomas de otros trastorn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r: conciencia de la enfermedad  buena o ajustada; poca conciencia de la enfermedad; sin conciencia de la enfermedad; relacionado con tic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46244-D9DC-4AA4-B255-1A80D880BCDA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69" name="10 Flecha izquierda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11 Rectángulo redondeado"/>
          <p:cNvGrpSpPr/>
          <p:nvPr/>
        </p:nvGrpSpPr>
        <p:grpSpPr>
          <a:xfrm>
            <a:off x="1054080" y="676440"/>
            <a:ext cx="4737240" cy="1396800"/>
            <a:chOff x="1054080" y="676440"/>
            <a:chExt cx="4737240" cy="1396800"/>
          </a:xfrm>
        </p:grpSpPr>
        <p:pic>
          <p:nvPicPr>
            <p:cNvPr id="72" name="11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1054080" y="676440"/>
              <a:ext cx="473724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1206360" y="777960"/>
              <a:ext cx="4445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obsesivos compuls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ISMÓRFICO CORPO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ambio de capítulo (deja trastornos de impulso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Preocupación con defectos percibidos en la apariencia física que no es observado por otr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Ha realizado comportamientos repetitivos o actos mentales (comparars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se explica mejor por preocupaciones por el tamaño y la silueta (T. alimentación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Dismorfia muscular: preocupación por insuficiente múscul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r: conciencia de la enfermedad  buena o ajustada; poca conciencia de la enfermedad; sin conciencia de la enfermeda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49C91-AB4C-48EE-800D-C90FAF13B397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80" name="10 Flecha izquierda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11 Rectángulo redondeado"/>
          <p:cNvGrpSpPr/>
          <p:nvPr/>
        </p:nvGrpSpPr>
        <p:grpSpPr>
          <a:xfrm>
            <a:off x="1054080" y="676440"/>
            <a:ext cx="4737240" cy="1396800"/>
            <a:chOff x="1054080" y="676440"/>
            <a:chExt cx="4737240" cy="1396800"/>
          </a:xfrm>
        </p:grpSpPr>
        <p:pic>
          <p:nvPicPr>
            <p:cNvPr id="83" name="11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1054080" y="676440"/>
              <a:ext cx="473724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1206360" y="777960"/>
              <a:ext cx="4445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obsesivos compuls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POR ACUMUL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Dificultad persistente a deshacerse de las posesiones (necesidad de guardar los objetos) y le produce malesta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Desorden o congestión de la viviend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atribuible a otra condición médic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r: conciencia de la enfermedad  buena o ajustada; poca conciencia de la enfermedad; sin conciencia de la enfermedad; adquisición excesiv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8A130-1F13-4309-BF9F-9130ABEC50C0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91" name="10 Flecha izquierda" descr=""/>
            <p:cNvPicPr/>
            <p:nvPr/>
          </p:nvPicPr>
          <p:blipFill>
            <a:blip r:embed="rId1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11 Rectángulo redondeado"/>
          <p:cNvGrpSpPr/>
          <p:nvPr/>
        </p:nvGrpSpPr>
        <p:grpSpPr>
          <a:xfrm>
            <a:off x="1054080" y="676440"/>
            <a:ext cx="4737240" cy="1396800"/>
            <a:chOff x="1054080" y="676440"/>
            <a:chExt cx="4737240" cy="1396800"/>
          </a:xfrm>
        </p:grpSpPr>
        <p:pic>
          <p:nvPicPr>
            <p:cNvPr id="94" name="11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1054080" y="676440"/>
              <a:ext cx="473724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1206360" y="777960"/>
              <a:ext cx="4445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obsesivos compuls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ICOTILOMANÍ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hay cambios significativos en los criterios (arrancamiento de cabello con pérdida perceptible), salvo la eliminación de la tensión/alivio al llevarlo a cab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POR EXCORIACIÓN (RASCADO / ARRANCAMIENTO DE LA PIE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- Rascado o arrancamiento que provoca lesiones cutáneas, con intentos de disminuir o parar el rascado, ocupando gran cantidad de su tiempo, con deterioro social, con comportamientos o rituales asociado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4173-3E42-427C-920F-6FF408F6E56B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02" name="10 Flecha izquierda" descr=""/>
            <p:cNvPicPr/>
            <p:nvPr/>
          </p:nvPicPr>
          <p:blipFill>
            <a:blip r:embed="rId1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11 Rectángulo redondeado"/>
          <p:cNvGrpSpPr/>
          <p:nvPr/>
        </p:nvGrpSpPr>
        <p:grpSpPr>
          <a:xfrm>
            <a:off x="1054080" y="676440"/>
            <a:ext cx="4737240" cy="1396800"/>
            <a:chOff x="1054080" y="676440"/>
            <a:chExt cx="4737240" cy="1396800"/>
          </a:xfrm>
        </p:grpSpPr>
        <p:pic>
          <p:nvPicPr>
            <p:cNvPr id="105" name="11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1054080" y="676440"/>
              <a:ext cx="473724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1206360" y="777960"/>
              <a:ext cx="4445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obsesivos compuls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57160" y="2499840"/>
            <a:ext cx="785808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OC INDUCIDO POR MEDICACIÓN/SUSTANCI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Obsesiones, compulsiones, rascado, arrancamiento de piel o cabello, característicos de TOC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onsecuencia fisiológica de intoxicación por sustancias, abstinencia o medicació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aparece en transcurso de deliriu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PRESIVO DEBIDO A OTRA CONDICIÓN MÉD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Obsesiones, compulsiones, rascado, arrancamiento de piel o cabello, característicos de TOC.  Consecuencia fisiológica de una enfermedad médic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aparece en transcurso de deliriu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r: síntomas similares a TOC, rumiaciones sobre la apariencia, síntomas de acumulación, arrancamiento o rascad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F9160-7D9A-4D37-894E-3A80097DFDCE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13" name="10 Flecha izquierda" descr=""/>
            <p:cNvPicPr/>
            <p:nvPr/>
          </p:nvPicPr>
          <p:blipFill>
            <a:blip r:embed="rId1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11 Rectángulo redondeado"/>
          <p:cNvGrpSpPr/>
          <p:nvPr/>
        </p:nvGrpSpPr>
        <p:grpSpPr>
          <a:xfrm>
            <a:off x="1054080" y="676440"/>
            <a:ext cx="4737240" cy="1396800"/>
            <a:chOff x="1054080" y="676440"/>
            <a:chExt cx="4737240" cy="1396800"/>
          </a:xfrm>
        </p:grpSpPr>
        <p:pic>
          <p:nvPicPr>
            <p:cNvPr id="116" name="11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1054080" y="676440"/>
              <a:ext cx="473724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1206360" y="777960"/>
              <a:ext cx="4445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obsesivos compuls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OTRO TOC ESPECIFIC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ueva categorí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cumple todos los criterios de alguna de las categorías precedent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OC NO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-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uando no hay suficiente información para diagnóstico más específic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B8C25-AE62-4855-95AC-C77B1B2D1793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24" name="10 Flecha izquierda" descr=""/>
            <p:cNvPicPr/>
            <p:nvPr/>
          </p:nvPicPr>
          <p:blipFill>
            <a:blip r:embed="rId1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11 Rectángulo redondeado"/>
          <p:cNvGrpSpPr/>
          <p:nvPr/>
        </p:nvGrpSpPr>
        <p:grpSpPr>
          <a:xfrm>
            <a:off x="1054080" y="676440"/>
            <a:ext cx="4737240" cy="1396800"/>
            <a:chOff x="1054080" y="676440"/>
            <a:chExt cx="4737240" cy="1396800"/>
          </a:xfrm>
        </p:grpSpPr>
        <p:pic>
          <p:nvPicPr>
            <p:cNvPr id="127" name="11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1054080" y="676440"/>
              <a:ext cx="473724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1206360" y="777960"/>
              <a:ext cx="4445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obsesivos compuls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2:52:41Z</dcterms:created>
  <dc:creator>USUARIO</dc:creator>
  <dc:description/>
  <dc:language>en-US</dc:language>
  <cp:lastModifiedBy>USUARIO</cp:lastModifiedBy>
  <dcterms:modified xsi:type="dcterms:W3CDTF">2014-06-02T07:42:12Z</dcterms:modified>
  <cp:revision>20</cp:revision>
  <dc:subject/>
  <dc:title>DSM-V</dc:title>
</cp:coreProperties>
</file>