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7C9-CFC8-403F-AFF7-F566A316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88A-A75D-4213-8894-87F21E7F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B99-085B-4893-97FA-5DCE937B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BB6-8401-4C2C-9295-25264493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360-69C4-44F8-A231-4ECB8A0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5E3-012E-494E-98A2-996A69AA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039-D06A-446B-BE23-13259715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650-3430-4195-991B-178C0D15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326-8484-461C-9AF8-4A7883E9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EAC-B087-4ED7-A218-1C41562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DBE-23C2-46B7-BB75-6B8D7EA1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298-9054-4159-BCB4-9EECB9B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EF0B-2803-4B4C-8DAA-24CF27D6821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DAE4-60DB-4584-A54E-43FD96E323BB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SM-V_trastornosexcreci&#243;n.pp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DSM-V_trastornosTOC.ppt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DSM-V_trastornosdeansiedad.ppt" TargetMode="External"/><Relationship Id="rId6" Type="http://schemas.openxmlformats.org/officeDocument/2006/relationships/image" Target="../media/image5.png"/><Relationship Id="rId7" Type="http://schemas.openxmlformats.org/officeDocument/2006/relationships/hyperlink" Target="file:///DSM-V_trastornosalimentarios.ppt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DSM-V_trastornostraumas.ppt" TargetMode="External"/><Relationship Id="rId10" Type="http://schemas.openxmlformats.org/officeDocument/2006/relationships/image" Target="../media/image7.png"/><Relationship Id="rId11" Type="http://schemas.openxmlformats.org/officeDocument/2006/relationships/hyperlink" Target="file:///DSM-V_trastornos%20personalidad.ppt" TargetMode="External"/><Relationship Id="rId12" Type="http://schemas.openxmlformats.org/officeDocument/2006/relationships/image" Target="../media/image8.png"/><Relationship Id="rId13" Type="http://schemas.openxmlformats.org/officeDocument/2006/relationships/hyperlink" Target="file:///DSM-V_trastornosconducta.ppt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3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1857240" y="1857240"/>
            <a:ext cx="57150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3 Rectángulo redondeado"/>
          <p:cNvSpPr/>
          <p:nvPr/>
        </p:nvSpPr>
        <p:spPr>
          <a:xfrm>
            <a:off x="2857680" y="5716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c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00120" y="185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42c8"/>
                </a:solidFill>
                <a:latin typeface="Calibri"/>
              </a:rPr>
              <a:t>Reflexión sobre la nueva clasificación de los trastornos mentales frente a DSM-IV-TR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10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2F2F-6F4F-4A68-9DB1-50148A0CE94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1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47" name="12 Rectángulo redondeado"/>
          <p:cNvGrpSpPr/>
          <p:nvPr/>
        </p:nvGrpSpPr>
        <p:grpSpPr>
          <a:xfrm>
            <a:off x="3651120" y="4896000"/>
            <a:ext cx="2835360" cy="961920"/>
            <a:chOff x="3651120" y="4896000"/>
            <a:chExt cx="2835360" cy="961920"/>
          </a:xfrm>
        </p:grpSpPr>
        <p:pic>
          <p:nvPicPr>
            <p:cNvPr id="48" name="12 Rectángulo redondeado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1120" y="4896000"/>
              <a:ext cx="28353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55880" y="4970520"/>
              <a:ext cx="2632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4617b"/>
                  </a:solidFill>
                  <a:latin typeface="Calibri"/>
                </a:rPr>
                <a:t>ACCESO</a:t>
              </a:r>
              <a:endParaRPr b="0" lang="en-US" sz="32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4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1CFB-BA10-475C-8D1D-8CBBBD5E9929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trastorno de tics motores o vocales persistentes (solo motores o vocales); trastorno de tics transitori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2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4479-57C9-47F2-BB02-B9AE1C62E71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nducta (agresión a personas o animales, destrucción de la propiedad, engaño o robo, incumplimiento grave de normas):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ipo de inicio infantil, adolescente,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: con emociones prosociales limitadas, falta de remordimientos o culpabilidad, insensible – carente de empatía, despreocupado por su rendimiento, afecto superficial o deficiente. 3 niveles de grave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personalidad antisocial (dentro de trastornos de la personalidad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iromanía, cleptomanía, TC no especificado, Otro TC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8" name="6 Grupo"/>
          <p:cNvGrpSpPr/>
          <p:nvPr/>
        </p:nvGrpSpPr>
        <p:grpSpPr>
          <a:xfrm>
            <a:off x="785880" y="571680"/>
            <a:ext cx="4572000" cy="1428840"/>
            <a:chOff x="785880" y="571680"/>
            <a:chExt cx="4572000" cy="1428840"/>
          </a:xfrm>
        </p:grpSpPr>
        <p:sp>
          <p:nvSpPr>
            <p:cNvPr id="159" name="3 Rectángulo redondeado"/>
            <p:cNvSpPr/>
            <p:nvPr/>
          </p:nvSpPr>
          <p:spPr>
            <a:xfrm>
              <a:off x="785880" y="571680"/>
              <a:ext cx="4572000" cy="1428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0" name="5 CuadroTexto"/>
            <p:cNvSpPr/>
            <p:nvPr/>
          </p:nvSpPr>
          <p:spPr>
            <a:xfrm>
              <a:off x="1054800" y="714600"/>
              <a:ext cx="412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842A-804B-436B-8CEB-4002F22D8894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6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67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8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8F3F-493A-4D96-9B77-B8EA4EA03AC4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6A2A-438A-4C76-AEFD-BB6F698CB7F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3" name="15 Rectángulo redondeado"/>
          <p:cNvGrpSpPr/>
          <p:nvPr/>
        </p:nvGrpSpPr>
        <p:grpSpPr>
          <a:xfrm>
            <a:off x="79200" y="3535200"/>
            <a:ext cx="4548240" cy="682920"/>
            <a:chOff x="79200" y="3535200"/>
            <a:chExt cx="4548240" cy="682920"/>
          </a:xfrm>
        </p:grpSpPr>
        <p:pic>
          <p:nvPicPr>
            <p:cNvPr id="54" name="15 Rectángulo redondeado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9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1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elimin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6" name="16 Rectángulo redondeado"/>
          <p:cNvGrpSpPr/>
          <p:nvPr/>
        </p:nvGrpSpPr>
        <p:grpSpPr>
          <a:xfrm>
            <a:off x="4651200" y="4248000"/>
            <a:ext cx="4548240" cy="684360"/>
            <a:chOff x="4651200" y="4248000"/>
            <a:chExt cx="4548240" cy="684360"/>
          </a:xfrm>
        </p:grpSpPr>
        <p:pic>
          <p:nvPicPr>
            <p:cNvPr id="57" name="16 Rectángulo redondeado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651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43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Obsesivo-compulsiv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9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60" name="17 Rectángulo redondeado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2" name="18 Rectángulo redondeado"/>
          <p:cNvGrpSpPr/>
          <p:nvPr/>
        </p:nvGrpSpPr>
        <p:grpSpPr>
          <a:xfrm>
            <a:off x="4651200" y="4962600"/>
            <a:ext cx="4548240" cy="682560"/>
            <a:chOff x="4651200" y="4962600"/>
            <a:chExt cx="4548240" cy="682560"/>
          </a:xfrm>
        </p:grpSpPr>
        <p:pic>
          <p:nvPicPr>
            <p:cNvPr id="63" name="18 Rectángulo redondeado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651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743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aliment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5" name="19 Rectángulo redondeado"/>
          <p:cNvGrpSpPr/>
          <p:nvPr/>
        </p:nvGrpSpPr>
        <p:grpSpPr>
          <a:xfrm>
            <a:off x="79200" y="4962600"/>
            <a:ext cx="4548240" cy="682560"/>
            <a:chOff x="79200" y="4962600"/>
            <a:chExt cx="4548240" cy="682560"/>
          </a:xfrm>
        </p:grpSpPr>
        <p:pic>
          <p:nvPicPr>
            <p:cNvPr id="66" name="19 Rectángulo redondeado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79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71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de trauma y estres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8" name="20 Rectángulo redondeado"/>
          <p:cNvGrpSpPr/>
          <p:nvPr/>
        </p:nvGrpSpPr>
        <p:grpSpPr>
          <a:xfrm>
            <a:off x="4651200" y="5681520"/>
            <a:ext cx="4548240" cy="676440"/>
            <a:chOff x="4651200" y="5681520"/>
            <a:chExt cx="4548240" cy="676440"/>
          </a:xfrm>
        </p:grpSpPr>
        <p:pic>
          <p:nvPicPr>
            <p:cNvPr id="69" name="20 Rectángulo redondeado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51200" y="5681520"/>
              <a:ext cx="45482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743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personal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1" name="21 Rectángulo redondeado"/>
          <p:cNvGrpSpPr/>
          <p:nvPr/>
        </p:nvGrpSpPr>
        <p:grpSpPr>
          <a:xfrm>
            <a:off x="73080" y="5619600"/>
            <a:ext cx="4614840" cy="738360"/>
            <a:chOff x="73080" y="5619600"/>
            <a:chExt cx="4614840" cy="738360"/>
          </a:xfrm>
        </p:grpSpPr>
        <p:pic>
          <p:nvPicPr>
            <p:cNvPr id="72" name="21 Rectángulo redondeado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3080" y="5619600"/>
              <a:ext cx="46148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71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4617b"/>
                  </a:solidFill>
                  <a:latin typeface="Calibri"/>
                </a:rPr>
                <a:t>T. disruptivos, de control de impulsos y de la conducta</a:t>
              </a: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4" name="22 Rectángulo redondeado"/>
          <p:cNvGrpSpPr/>
          <p:nvPr/>
        </p:nvGrpSpPr>
        <p:grpSpPr>
          <a:xfrm>
            <a:off x="79200" y="2822400"/>
            <a:ext cx="4548240" cy="682920"/>
            <a:chOff x="79200" y="2822400"/>
            <a:chExt cx="4548240" cy="682920"/>
          </a:xfrm>
        </p:grpSpPr>
        <p:pic>
          <p:nvPicPr>
            <p:cNvPr id="75" name="22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79200" y="28224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71360" y="288612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l neuro-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7" name="23 Rectángulo redondeado"/>
          <p:cNvGrpSpPr/>
          <p:nvPr/>
        </p:nvGrpSpPr>
        <p:grpSpPr>
          <a:xfrm>
            <a:off x="4651200" y="3535200"/>
            <a:ext cx="4548240" cy="682920"/>
            <a:chOff x="4651200" y="3535200"/>
            <a:chExt cx="4548240" cy="682920"/>
          </a:xfrm>
        </p:grpSpPr>
        <p:pic>
          <p:nvPicPr>
            <p:cNvPr id="78" name="23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4651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743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80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81" name="24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Principales cambios y estructur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9 Rectángulo redondeado"/>
          <p:cNvSpPr/>
          <p:nvPr/>
        </p:nvSpPr>
        <p:spPr>
          <a:xfrm>
            <a:off x="642960" y="2214720"/>
            <a:ext cx="664380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liminación del sistema multiaxi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valuación dimensional con diferentes escal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Organización evolutiva de los trastornos.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8" name="5 CuadroTexto"/>
            <p:cNvSpPr/>
            <p:nvPr/>
          </p:nvSpPr>
          <p:spPr>
            <a:xfrm>
              <a:off x="1000080" y="714600"/>
              <a:ext cx="22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Estructura y modificacion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245D-7631-4142-8B4C-57697ACB58C3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desarrollo intelectu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del espectro autista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s habilidades motor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9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54A8-9023-4649-A264-25FE5F93387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0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D78B-426C-4908-A35C-235806C7FB73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12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AEAA-6148-4B75-B50A-8599A5A8209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idez 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0159-FC05-4EAA-99B4-CF01053B685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2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C481-A198-4696-AA48-A5415026841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34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35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6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AB61-F306-4A5A-9D4D-A3889C08D93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2T00:12:47Z</dcterms:modified>
  <cp:revision>46</cp:revision>
  <dc:subject/>
  <dc:title>DSM-V</dc:title>
</cp:coreProperties>
</file>