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08E-2E56-4A8C-B2AA-52DD0E42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65F-35B5-44DA-8DDB-C7DB327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1DC-9079-4AED-AFA7-5B7DFA59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A01-7E0D-4B5C-BD4B-D13A8C01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324-BC14-45A5-9B96-5A91680E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E53-B41A-42D1-82D0-D834D3E8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429-7E36-4FC0-832C-1E428E40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41F-4B91-4A24-B303-2C7F2337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F25-B929-4C17-9FFB-9E1ECB01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769-E091-488C-8C89-08CA724D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730-AA3D-43E3-9249-9DC681F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4B2-AE97-4C66-93F8-F400FA85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0BBD-351C-4282-BAAF-49F7D1BC74E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por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Otro trastorno relacionados con trauma y estresore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7B5E-9CF0-49F3-91BB-6480CC09C9B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 con los trastornos de estré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gra algunos que aparecían con los trastornos de ansiedad y otros que estaban dentro de la categoría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significativos en el trastorno de estrés postraumático (eventos más explícitos, desaparece el criterio A2, cuatro grupos de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 separados para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estrés agudo, directo o indirecto. Eliminación criterio A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vinculación reactivo,  y trastorno de la actividad social desinhibida (trastornos separad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48C0-B67B-4C8D-A99A-1099CB87BBE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7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, pero separa los dos tipos (inhibido y desinhibido), como trastorno de la vinculación reactivo y trastorno de la actividad social desinhib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el trastorno de vinculación reactivo especifica más los indicadores y añade varios criterios de exclu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constante de conducta inhibida, emocional retraída hacia adultos cuidadores: falta de búsqueda de consuelo, o falta de respuesta cuando se consuel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ersistente alteración social: mínima respuesta social, limitado afecto positivo, episodios de irritabilidad inexplic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insuficientes cuidado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criterios de TEA. Antes de l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4DC1-3CFF-4E44-8575-9A7C5B16952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niño se acerca activamente a adultos no familiares: reducida reticencia a acercarse, conducta excesivamente familiar, reducida comprobación de la opinión de los adultos cuidadores, disposición a ir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s conductas no se limitan a impulsiv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cuidados insuficiente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9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B169-A63E-4168-87F3-C788AD5AF91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 adultos y mayores de 6 años, de los niños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dultos: exposición a muerte real o peligro de muerte, lesiones o violencia sexual (4 criterios); presencia de síntomas intrusivos (recuerdos recurrentes, sueños, sensación de que el acontecimiento está sucediendo, malestar ante estímulos que lo recuerdan); evitación de estímulos asociados al trauma (7 criterios); alteraciones negativas de las cogniciones (7 criterios); alteraciones de la activación y reactividad (6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disociativos (despersonalización, desrealización), inicio demo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niños: exposición a muerte real o peligro de muerte, lesiones o violencia sexual (2 criterios); presencia de síntomas intrusivos (recuerdos recurrentes, sueños, sensación de que el acontecimiento está sucediendo, malestar ante estímulos que lo recuerdan); evitación de estímulos asociados al trauma (5 criterios); alteraciones negativas de las cogniciones (5 criterios); alteraciones de la activación y reactividad (5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EFED-BC60-477B-B374-0360CC2F54C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exposición a muerte real o peligro de muerte, lesiones o violencia sexual (4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intrusivos (recuerdos recurrentes, sueños, sensación de que el acontecimiento está sucediendo, malestar ante estímulos que lo recuerdan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 de evitación de estímulos asociados al trauma (2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fecto negativo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isociativos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ctivación (5): problemas de sueños, irritabilidad, hiper-vigilancia, concentración, respuestas exageradas de sobresalt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ción mínima 3 días y un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E3C-31DC-4FB3-8919-7C2516ADAE8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emocionales o de conducta e respuesta a estresores, dentro de los tres meses siguientes al evento, con malestar y deterioro social significativo. No persisten más de 6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responden a due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ánimo depresivo, ansiedad, mixto, alteraciones del comportamiento, mixto con alteraciones emocionales y comportamiento, no especifi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DA23-3511-4CF6-8C5A-6E64C736499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13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6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RELACIONADOS CON TRAUMA Y ESTRES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relacionados con trauma y estresores” más la razón especi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AD63-1B11-42E5-BC13-84750E1F977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2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7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28:38Z</dcterms:modified>
  <cp:revision>26</cp:revision>
  <dc:subject/>
  <dc:title>DSM-V</dc:title>
</cp:coreProperties>
</file>