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D23-9541-4AE8-BE33-23D155E8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49B-96B4-473A-81D7-B5B2E408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1B9-AF9B-4035-9FF4-BE293276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255-1F0B-403C-93B8-735CCCEA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632-69B3-4B94-88DA-F7684710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E81-DBD1-40F9-812C-0F2F9635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EF3-F47D-42E1-BA43-1F148E91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5C75-3C47-4436-94CC-47DC621A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0DFE-CF24-4AA4-8216-CAF6A806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A64-4CB8-4D95-A119-D1B5BB4D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1D5-7346-4FC3-9F4B-98D1E704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243-6F27-4798-A572-1FF1DF7A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FEC6-254A-4D33-88B5-05AF1453E21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2.xml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Enu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Encop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Otro trastorno alimentario de la excreción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e la excre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2179-2412-4E2E-B3BD-842CBED8453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47" name="10 Rectángulo redondeado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50" name="11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ición de la categoría de trastornos de inicio en la infancia y la adolescencia y pasa a ser una categorí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vinculado de otros cuadros o trastornos por la alteración de hábitos básicos o por la edad de apari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82C2-E093-46D0-B36B-AAACEEDFB9D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ENU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misión repetida de orina en la cama o en la ropa (involuntaria o intenciona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2 episodios por semana en 3 meses consecutivos o malestar clínicamente significativo o deterioro social, académico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cronológica al menos 5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fectos fisiológicos de sustancia ni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sólo nocturna, sólo diurna, nocturna y diurn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003B-D03B-41D6-9179-2DD18195427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ENCOP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vacuación repetida de heces, involuntaria o intencion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1 episodio al mes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: por lo menos 4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fectos fisiológicos de sustancia ni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estreñimiento e incontinencia por rebosamiento o sin estreñimiento e incontinencia por rebosamiento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1F88-24AA-415D-BFBF-606AFAEDB23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DE LA EXCRE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de la excreción” más la razón especifica: baja frecuencia de enuresis o encopres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EXCRE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 y no comunica razón especí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54F2-DBCD-4A7E-A562-3D7003747A5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1T21:51:33Z</dcterms:modified>
  <cp:revision>20</cp:revision>
  <dc:subject/>
  <dc:title>DSM-V</dc:title>
</cp:coreProperties>
</file>